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72880" y="677520"/>
            <a:ext cx="451332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E7BD-187D-4D2B-990A-10B8AA385A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0C76-602D-4DE3-AC41-28F8F24DF5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1090-8A46-46E7-BDF8-9838DC06C82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49D0-6E8D-45EF-960B-8B9624E8D1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E1D5-2BC2-4DE9-8893-5BADEFDBED4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7A5D-3BAF-4E54-90F1-CAC567CB2A1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DE0D-D677-4FE0-80C8-F2683182AF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2E91-53B3-4614-893E-E7954C41B3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2F29-5747-4938-B295-B18CAE57FD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DD78-E1FE-47D4-88A2-1162DAFF824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9357-FAE8-4B4F-AEF1-1F7BC4441F9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F911-700C-4E0B-9B66-F767F3BDE98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2D64-06DB-49B8-A735-01B6048895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469F-29BF-452A-8232-7BD4254C25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D8EF-70AB-4A50-9391-E588472672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F4A8-33F4-490F-8DA3-75C7B5D40D4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D691-A0CE-49B6-A944-E1FED9C9522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9873-21C5-4C15-8ED1-D300CCBA96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01A6-351C-40CE-9409-839BE113FA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57736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90B9-A0E6-43E6-8BD9-C039CB150DA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287960"/>
            <a:ext cx="5029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B5D-9D03-4032-B69C-BAD33758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5AF-39B7-4DE4-A239-F470EB35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8BC-7962-4433-8B7A-AC929E91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E8B-0E09-4953-B4E0-486909AB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C187-C609-4167-84F9-DF6F7A18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7701-0440-415F-B6D4-E269EB97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7801-7E5D-420C-B462-FDAF3813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ADB1-06CF-480E-A764-82837AF1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B195-DEF0-414B-818F-2C9B8533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A9DF-077E-4FE9-9B3F-8D915E4D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CFAF-1CC4-4414-94D4-EB0522E0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AA3-19EB-4D65-A16F-F31D4232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7A68-22FC-4FB4-A1FD-455812A1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4340-F5E4-4735-9A15-0E90CB52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A2BF-8839-4561-AEE7-9EDB7B9B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C8E9-D161-4615-936E-31566D98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9B7E-15A2-4E2A-9D4C-5FC97DC7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BA5-3193-4109-AF3E-E0C3BA90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10F-0295-452B-8D65-4D94D030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FC5-C23E-4AA5-AEB1-3F2A644F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E3D3-E78A-491B-AD85-A1259A20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C77-F5B8-4689-8846-76D94A02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870-50E3-4F44-A793-389FBBCD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CCD-E9C6-45AF-9A19-C759A00F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4168-9E21-4113-BC2E-AD63AC9AC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B4A5-C73F-42FC-BBF7-E55BB5107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547640" y="2492280"/>
            <a:ext cx="6629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EL MERCADO INTERNACIONAL 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Y NACIONAL 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DE LA 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CARNE DE CONEJO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graphicFrame>
        <p:nvGraphicFramePr>
          <p:cNvPr id="108" name="Object 14"/>
          <p:cNvGraphicFramePr/>
          <p:nvPr/>
        </p:nvGraphicFramePr>
        <p:xfrm>
          <a:off x="324000" y="0"/>
          <a:ext cx="151128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151128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838080" y="1981080"/>
            <a:ext cx="6782040" cy="2133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743200" y="24382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CONSUMO DE LA CARNE DE CONEJO</a:t>
            </a:r>
            <a:endParaRPr b="0" lang="en-US" sz="3600" spc="-1" strike="noStrike">
              <a:solidFill>
                <a:srgbClr val="2c317f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914400" y="2057400"/>
          <a:ext cx="167652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1676520" cy="201600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468360" y="85680"/>
            <a:ext cx="8351640" cy="825480"/>
          </a:xfrm>
          <a:prstGeom prst="rect">
            <a:avLst/>
          </a:prstGeom>
          <a:solidFill>
            <a:srgbClr val="497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31d2d"/>
                </a:solidFill>
                <a:latin typeface="Arial"/>
              </a:rPr>
              <a:t>Principales países consumidores de  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31d2d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c31d2d"/>
                </a:solidFill>
                <a:latin typeface="Arial"/>
              </a:rPr>
              <a:t>carne de conejo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39640" y="139860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Malta                                                                       8.205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Italia                                                                       5.284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Chipre                                                                     4.079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Bielorusia                                                               2.893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España                                                                    2.752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Ucrania                                                                 2.234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Bélgica                                                                  2.199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Francia                                                                  2.077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ortugal                                                                2.040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Luxemburgo                                                          1.932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p. Checa                                                            1.704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42031"/>
                </a:solidFill>
                <a:latin typeface="Tahoma"/>
              </a:rPr>
              <a:t>México                                                                    0.159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68360" y="981000"/>
            <a:ext cx="8351640" cy="8254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País                                                                          kg / hab         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95280" y="630864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imes New Roman"/>
              </a:rPr>
              <a:t>Lebas y Colin,2001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838080" y="1981080"/>
            <a:ext cx="6782040" cy="2133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286000" y="227016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ecff"/>
                </a:solidFill>
                <a:latin typeface="Times New Roman"/>
              </a:rPr>
              <a:t>COMERCIO INTERNACIONAL</a:t>
            </a:r>
            <a:endParaRPr b="0" lang="en-US" sz="4000" spc="-1" strike="noStrike">
              <a:solidFill>
                <a:srgbClr val="2c317f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914400" y="2057400"/>
          <a:ext cx="167652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1676520" cy="201600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5" descr="Mapa cont americano"/>
          <p:cNvPicPr/>
          <p:nvPr/>
        </p:nvPicPr>
        <p:blipFill>
          <a:blip r:embed="rId1"/>
          <a:stretch/>
        </p:blipFill>
        <p:spPr>
          <a:xfrm>
            <a:off x="250920" y="765000"/>
            <a:ext cx="2820960" cy="547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Mapa cont europeo"/>
          <p:cNvPicPr/>
          <p:nvPr/>
        </p:nvPicPr>
        <p:blipFill>
          <a:blip r:embed="rId2"/>
          <a:stretch/>
        </p:blipFill>
        <p:spPr>
          <a:xfrm>
            <a:off x="5580000" y="765000"/>
            <a:ext cx="3309840" cy="5472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143160" y="1382760"/>
            <a:ext cx="2362320" cy="4850280"/>
          </a:xfrm>
          <a:prstGeom prst="rect">
            <a:avLst/>
          </a:prstGeom>
          <a:solidFill>
            <a:srgbClr val="4f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China           25.0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Hungría          8.4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olonia           6.0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Bélgica           5.3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rancia           5.2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aíses bajos  5.2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spaña           3.4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Argentina       3.2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namarca     3.0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p. Checa    2.5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. U. A.           2.0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Yugoslavia     1.5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24000" y="62118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ebas y Colin, 2001.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43160" y="765000"/>
            <a:ext cx="2362320" cy="532800"/>
          </a:xfrm>
          <a:prstGeom prst="rect">
            <a:avLst/>
          </a:prstGeom>
          <a:solidFill>
            <a:srgbClr val="4f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ís    Miles ton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64" name="Freeform 10"/>
          <p:cNvSpPr/>
          <p:nvPr/>
        </p:nvSpPr>
        <p:spPr>
          <a:xfrm>
            <a:off x="1619280" y="2133720"/>
            <a:ext cx="1639800" cy="3433680"/>
          </a:xfrm>
          <a:prstGeom prst="pie">
            <a:avLst/>
          </a:prstGeom>
          <a:noFill/>
          <a:ln w="507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250920" y="228600"/>
            <a:ext cx="8664480" cy="459720"/>
          </a:xfrm>
          <a:prstGeom prst="rect">
            <a:avLst/>
          </a:prstGeom>
          <a:solidFill>
            <a:srgbClr val="3f8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b232d"/>
                </a:solidFill>
                <a:latin typeface="Arial"/>
              </a:rPr>
              <a:t>Principales países exportadores de carne de conejo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457200" y="196920"/>
            <a:ext cx="8534520" cy="459720"/>
          </a:xfrm>
          <a:prstGeom prst="rect">
            <a:avLst/>
          </a:prstGeom>
          <a:solidFill>
            <a:srgbClr val="6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b232d"/>
                </a:solidFill>
                <a:latin typeface="Arial"/>
              </a:rPr>
              <a:t>Principales países Importadores de carne de conejo         </a:t>
            </a:r>
            <a:r>
              <a:rPr b="1" lang="es-ES_tradnl" sz="2400" spc="-1" strike="noStrike">
                <a:solidFill>
                  <a:srgbClr val="fb232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57200" y="650088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ebas y Colin, 2001.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8360" y="836640"/>
            <a:ext cx="3527280" cy="4597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ís                    Miles ton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68360" y="1346040"/>
            <a:ext cx="3527280" cy="5725080"/>
          </a:xfrm>
          <a:prstGeom prst="rect">
            <a:avLst/>
          </a:prstGeom>
          <a:solidFill>
            <a:srgbClr val="6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aíses bajos          9.49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Reino Unido           9.00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ancia                   8.45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lemania                6.84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talia                        5.01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Bélgica                   5.00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spaña                   3.50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Rusia                      3.93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anada                   3.00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.U.A.                      3.00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pic>
        <p:nvPicPr>
          <p:cNvPr id="170" name="Picture 9" descr="Mapa cont europeo 2"/>
          <p:cNvPicPr/>
          <p:nvPr/>
        </p:nvPicPr>
        <p:blipFill>
          <a:blip r:embed="rId1"/>
          <a:stretch/>
        </p:blipFill>
        <p:spPr>
          <a:xfrm>
            <a:off x="4067280" y="765000"/>
            <a:ext cx="48718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722304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1116000" y="1989000"/>
            <a:ext cx="7128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os estudios de mercado son indispensables para conocer las necesidades  y preferencias de los consumidores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258920" y="1810800"/>
            <a:ext cx="6985080" cy="264924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000000"/>
              </a:gs>
              <a:gs pos="100000">
                <a:srgbClr val="0000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Tahoma"/>
              </a:rPr>
              <a:t>El gusto por el sabor de la carne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Tahoma"/>
              </a:rPr>
              <a:t>La disponibilidad del producto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Tahoma"/>
              </a:rPr>
              <a:t>Conocimiento de las diferentes formas de preparación (saberlo guisar)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Tahoma"/>
              </a:rPr>
              <a:t>Tener su propia cría de conejos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Tahoma"/>
              </a:rPr>
              <a:t>Que la carne fuera más barata 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66"/>
                </a:solidFill>
                <a:latin typeface="Tahoma"/>
              </a:rPr>
              <a:t>Mejorar la presentación de la canal. 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675160" y="765000"/>
            <a:ext cx="32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actores condicionantes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755640" y="2438280"/>
            <a:ext cx="8388000" cy="1676160"/>
            <a:chOff x="755640" y="2438280"/>
            <a:chExt cx="8388000" cy="1676160"/>
          </a:xfrm>
        </p:grpSpPr>
        <p:sp>
          <p:nvSpPr>
            <p:cNvPr id="176" name="Rectangle 3"/>
            <p:cNvSpPr/>
            <p:nvPr/>
          </p:nvSpPr>
          <p:spPr>
            <a:xfrm>
              <a:off x="2806200" y="2438280"/>
              <a:ext cx="6151320" cy="1676160"/>
            </a:xfrm>
            <a:prstGeom prst="rect">
              <a:avLst/>
            </a:prstGeom>
            <a:solidFill>
              <a:srgbClr val="0038ec"/>
            </a:soli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17f"/>
                </a:solidFill>
                <a:latin typeface="Arial"/>
              </a:endParaRPr>
            </a:p>
          </p:txBody>
        </p:sp>
        <p:sp>
          <p:nvSpPr>
            <p:cNvPr id="177" name="Text Box 4"/>
            <p:cNvSpPr/>
            <p:nvPr/>
          </p:nvSpPr>
          <p:spPr>
            <a:xfrm>
              <a:off x="3066480" y="2819160"/>
              <a:ext cx="6077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ccecff"/>
                  </a:solidFill>
                  <a:latin typeface="Times New Roman"/>
                </a:rPr>
                <a:t>RESTAURANTES</a:t>
              </a:r>
              <a:endParaRPr b="0" lang="en-US" sz="5400" spc="-1" strike="noStrike">
                <a:solidFill>
                  <a:srgbClr val="2c317f"/>
                </a:solidFill>
                <a:latin typeface="Arial"/>
              </a:endParaRPr>
            </a:p>
          </p:txBody>
        </p:sp>
        <p:graphicFrame>
          <p:nvGraphicFramePr>
            <p:cNvPr id="178" name="Object 5"/>
            <p:cNvGraphicFramePr/>
            <p:nvPr/>
          </p:nvGraphicFramePr>
          <p:xfrm>
            <a:off x="755640" y="2438280"/>
            <a:ext cx="2050560" cy="16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2438280"/>
                      <a:ext cx="2050560" cy="1676160"/>
                    </a:xfrm>
                    <a:prstGeom prst="rect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042920" y="42516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nejos comercializados semanalmente  en restaurantes de Texcoco, media y total.</a:t>
            </a:r>
            <a:endParaRPr b="0" lang="en-US" sz="18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317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1640" y="1555920"/>
          <a:ext cx="7416720" cy="3528720"/>
        </p:xfrm>
        <a:graphic>
          <a:graphicData uri="http://schemas.openxmlformats.org/drawingml/2006/table">
            <a:tbl>
              <a:tblPr/>
              <a:tblGrid>
                <a:gridCol w="3625920"/>
                <a:gridCol w="1263600"/>
                <a:gridCol w="1263600"/>
                <a:gridCol w="1263600"/>
              </a:tblGrid>
              <a:tr h="176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Times New Roman"/>
                        </a:rPr>
                        <a:t>ú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ro de restaurantes</a:t>
                      </a:r>
                      <a:endParaRPr b="0" lang="en-US" sz="1400" spc="-1" strike="noStrike">
                        <a:solidFill>
                          <a:srgbClr val="2c317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4"/>
                        </a:gs>
                        <a:gs pos="50000">
                          <a:srgbClr val="000000"/>
                        </a:gs>
                        <a:gs pos="100000">
                          <a:srgbClr val="0000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2c317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4"/>
                        </a:gs>
                        <a:gs pos="50000">
                          <a:srgbClr val="000000"/>
                        </a:gs>
                        <a:gs pos="100000">
                          <a:srgbClr val="0000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2c317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4"/>
                        </a:gs>
                        <a:gs pos="50000">
                          <a:srgbClr val="000000"/>
                        </a:gs>
                        <a:gs pos="100000">
                          <a:srgbClr val="0000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E.E.</a:t>
                      </a:r>
                      <a:endParaRPr b="0" lang="en-US" sz="1400" spc="-1" strike="noStrike">
                        <a:solidFill>
                          <a:srgbClr val="2c317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4"/>
                        </a:gs>
                        <a:gs pos="50000">
                          <a:srgbClr val="000000"/>
                        </a:gs>
                        <a:gs pos="100000">
                          <a:srgbClr val="000044"/>
                        </a:gs>
                      </a:gsLst>
                      <a:lin ang="5400000"/>
                    </a:gradFill>
                  </a:tcPr>
                </a:tc>
              </a:tr>
              <a:tr h="17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2c317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4"/>
                        </a:gs>
                        <a:gs pos="50000">
                          <a:srgbClr val="000000"/>
                        </a:gs>
                        <a:gs pos="100000">
                          <a:srgbClr val="0000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86</a:t>
                      </a:r>
                      <a:endParaRPr b="0" lang="en-US" sz="1400" spc="-1" strike="noStrike">
                        <a:solidFill>
                          <a:srgbClr val="2c317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4"/>
                        </a:gs>
                        <a:gs pos="50000">
                          <a:srgbClr val="000000"/>
                        </a:gs>
                        <a:gs pos="100000">
                          <a:srgbClr val="0000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3.8</a:t>
                      </a:r>
                      <a:endParaRPr b="0" lang="en-US" sz="1400" spc="-1" strike="noStrike">
                        <a:solidFill>
                          <a:srgbClr val="2c317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4"/>
                        </a:gs>
                        <a:gs pos="50000">
                          <a:srgbClr val="000000"/>
                        </a:gs>
                        <a:gs pos="100000">
                          <a:srgbClr val="0000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.3</a:t>
                      </a:r>
                      <a:endParaRPr b="0" lang="en-US" sz="1400" spc="-1" strike="noStrike">
                        <a:solidFill>
                          <a:srgbClr val="2c317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4"/>
                        </a:gs>
                        <a:gs pos="50000">
                          <a:srgbClr val="000000"/>
                        </a:gs>
                        <a:gs pos="100000">
                          <a:srgbClr val="00004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82" name="Rectangle 24"/>
          <p:cNvSpPr/>
          <p:nvPr/>
        </p:nvSpPr>
        <p:spPr>
          <a:xfrm>
            <a:off x="1105920" y="5314320"/>
            <a:ext cx="164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E.E. = Error estándar</a:t>
            </a:r>
            <a:endParaRPr b="0" lang="en-US" sz="1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971640" y="1557360"/>
            <a:ext cx="741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971640" y="2852640"/>
            <a:ext cx="741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971640" y="5084640"/>
            <a:ext cx="741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914400" y="1981080"/>
            <a:ext cx="7391520" cy="2133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895480" y="272736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ecff"/>
                </a:solidFill>
                <a:latin typeface="Times New Roman"/>
              </a:rPr>
              <a:t>CONCLUSIONES</a:t>
            </a:r>
            <a:endParaRPr b="0" lang="en-US" sz="4000" spc="-1" strike="noStrike">
              <a:solidFill>
                <a:srgbClr val="2c317f"/>
              </a:solidFill>
              <a:latin typeface="Arial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914400" y="2057400"/>
          <a:ext cx="167652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1676520" cy="201600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609480" y="2590920"/>
            <a:ext cx="8076960" cy="1676160"/>
            <a:chOff x="609480" y="2590920"/>
            <a:chExt cx="8076960" cy="1676160"/>
          </a:xfrm>
        </p:grpSpPr>
        <p:sp>
          <p:nvSpPr>
            <p:cNvPr id="111" name="Rectangle 3"/>
            <p:cNvSpPr/>
            <p:nvPr/>
          </p:nvSpPr>
          <p:spPr>
            <a:xfrm>
              <a:off x="2583720" y="2590920"/>
              <a:ext cx="5923080" cy="1676160"/>
            </a:xfrm>
            <a:prstGeom prst="rect">
              <a:avLst/>
            </a:prstGeom>
            <a:solidFill>
              <a:srgbClr val="0038e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17f"/>
                </a:solidFill>
                <a:latin typeface="Arial"/>
              </a:endParaRPr>
            </a:p>
          </p:txBody>
        </p:sp>
        <p:sp>
          <p:nvSpPr>
            <p:cNvPr id="112" name="Text Box 4"/>
            <p:cNvSpPr/>
            <p:nvPr/>
          </p:nvSpPr>
          <p:spPr>
            <a:xfrm>
              <a:off x="2834640" y="2971800"/>
              <a:ext cx="585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17f"/>
                </a:solidFill>
                <a:latin typeface="Arial"/>
              </a:endParaRPr>
            </a:p>
          </p:txBody>
        </p:sp>
        <p:graphicFrame>
          <p:nvGraphicFramePr>
            <p:cNvPr id="113" name="Object 5"/>
            <p:cNvGraphicFramePr/>
            <p:nvPr/>
          </p:nvGraphicFramePr>
          <p:xfrm>
            <a:off x="609480" y="2590920"/>
            <a:ext cx="1974240" cy="16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2590920"/>
                      <a:ext cx="1974240" cy="1676160"/>
                    </a:xfrm>
                    <a:prstGeom prst="rect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15" name="Text Box 6"/>
          <p:cNvSpPr/>
          <p:nvPr/>
        </p:nvSpPr>
        <p:spPr>
          <a:xfrm>
            <a:off x="2744640" y="297180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Times New Roman"/>
              </a:rPr>
              <a:t>INTRODUCCION</a:t>
            </a:r>
            <a:endParaRPr b="0" lang="en-US" sz="5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914400" y="1295280"/>
            <a:ext cx="7238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La mayor producción de carne de conejo se concentra en 6  países, principalmente de Europa Occidental; por lo que se le considera como el centro de producción mundial.</a:t>
            </a: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l consumo per cápita de la carne de conejo es mayor de 1 kg en la mayoría de los países europeos, donde es una tradición histórica. </a:t>
            </a: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914400" y="655560"/>
            <a:ext cx="7407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l comercio internacional de la carne de conejo (exportaciones e importaciones) asciende a 91,000 toneladas anuales, que representa apenas el 6 % de la producción mundial, lo cual indica que la mayor producción se destina para autoconsumo.</a:t>
            </a: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22304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638520" y="3477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18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042920" y="981000"/>
            <a:ext cx="734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ahoma"/>
              </a:rPr>
              <a:t>La comercialización de la carne de conejo a través de los restaurantes del municipio de Texcoco es importante ya que del conejo que se comercializa por este medio, tres cuartas partes se produce en el mismo municipio y solamente una cuarta parte procede de otro municipio.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42920" y="2781360"/>
            <a:ext cx="7305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ahoma"/>
              </a:rPr>
              <a:t>En los restaurantes del municipio de Texcoco se comercializan 17.958 toneladas de carne de conejo al año de los cuales las granjas particulares proveen el 54 %, los intermediarios 16 % y los productores a escala familiar el 15 %.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042920" y="4508640"/>
            <a:ext cx="7274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ahoma"/>
              </a:rPr>
              <a:t>Las causas por las cuales el 50 % de los restaurantes no incluyen conejo en su menú fueron principalmente la disponibilidad del producto,  la falta de demanda de los consumidores por este producto y el precio elevado de la carne.</a:t>
            </a:r>
            <a:endParaRPr b="0" lang="en-US" sz="16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762120" y="1447920"/>
            <a:ext cx="7711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La cunicultura hoy en día juega un papel importante en  algunas  regiones del mundo.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egún la ONU, (1999) la carne de conejo constituirá en el corto plazo, un alimento muy  importante en la dieta de una alta proporción de la población de países pobres.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ctualmente la FAO promociona un plan mundial para incrementar la cría del conejo en el mundo.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609480" y="2590920"/>
            <a:ext cx="8076960" cy="1676160"/>
            <a:chOff x="609480" y="2590920"/>
            <a:chExt cx="8076960" cy="1676160"/>
          </a:xfrm>
        </p:grpSpPr>
        <p:sp>
          <p:nvSpPr>
            <p:cNvPr id="118" name="Rectangle 3"/>
            <p:cNvSpPr/>
            <p:nvPr/>
          </p:nvSpPr>
          <p:spPr>
            <a:xfrm>
              <a:off x="2583720" y="2590920"/>
              <a:ext cx="5923080" cy="1676160"/>
            </a:xfrm>
            <a:prstGeom prst="rect">
              <a:avLst/>
            </a:prstGeom>
            <a:solidFill>
              <a:srgbClr val="0038e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17f"/>
                </a:solidFill>
                <a:latin typeface="Arial"/>
              </a:endParaRPr>
            </a:p>
          </p:txBody>
        </p:sp>
        <p:sp>
          <p:nvSpPr>
            <p:cNvPr id="119" name="Text Box 4"/>
            <p:cNvSpPr/>
            <p:nvPr/>
          </p:nvSpPr>
          <p:spPr>
            <a:xfrm>
              <a:off x="2834640" y="2971800"/>
              <a:ext cx="585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c317f"/>
                </a:solidFill>
                <a:latin typeface="Arial"/>
              </a:endParaRPr>
            </a:p>
          </p:txBody>
        </p:sp>
        <p:graphicFrame>
          <p:nvGraphicFramePr>
            <p:cNvPr id="120" name="Object 5"/>
            <p:cNvGraphicFramePr/>
            <p:nvPr/>
          </p:nvGraphicFramePr>
          <p:xfrm>
            <a:off x="609480" y="2590920"/>
            <a:ext cx="1974240" cy="16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2590920"/>
                      <a:ext cx="1974240" cy="1676160"/>
                    </a:xfrm>
                    <a:prstGeom prst="rect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22" name="Text Box 6"/>
          <p:cNvSpPr/>
          <p:nvPr/>
        </p:nvSpPr>
        <p:spPr>
          <a:xfrm>
            <a:off x="2745000" y="2971800"/>
            <a:ext cx="49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Times New Roman"/>
              </a:rPr>
              <a:t>PRODUCCION</a:t>
            </a:r>
            <a:endParaRPr b="0" lang="en-US" sz="5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0"/>
          <p:cNvSpPr/>
          <p:nvPr/>
        </p:nvSpPr>
        <p:spPr>
          <a:xfrm>
            <a:off x="826920" y="1341360"/>
            <a:ext cx="7920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Según Lebas y Colin (2001), la producción mundial de conejos puede ser estimada en 1.84 millones de toneladas de carne, lo que representa un crecimiento del 14 % en relación a la estimación de 1996.</a:t>
            </a: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Esto nos conduce a un consumo medio mundial de 300 gramos/hab/año.</a:t>
            </a:r>
            <a:endParaRPr b="0" lang="en-US" sz="28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546920" y="115920"/>
            <a:ext cx="5955120" cy="459720"/>
          </a:xfrm>
          <a:prstGeom prst="rect">
            <a:avLst/>
          </a:prstGeom>
          <a:solidFill>
            <a:srgbClr val="6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42031"/>
                </a:solidFill>
                <a:latin typeface="Arial"/>
              </a:rPr>
              <a:t>Producción mundial de carne de conejo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1981080"/>
            <a:ext cx="7848720" cy="2133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0" y="213372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ecff"/>
                </a:solidFill>
                <a:latin typeface="Times New Roman"/>
              </a:rPr>
              <a:t>POBLACION DE CONEJAS REPRODUCTORAS</a:t>
            </a:r>
            <a:endParaRPr b="0" lang="en-US" sz="4000" spc="-1" strike="noStrike">
              <a:solidFill>
                <a:srgbClr val="2c317f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914400" y="2057400"/>
          <a:ext cx="167652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1676520" cy="201600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4572000" y="3429000"/>
            <a:ext cx="4321080" cy="252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914400" y="304920"/>
            <a:ext cx="76960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aíses con más de  3 millones  de conejas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68360" y="5562720"/>
            <a:ext cx="387504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Total          33,656                   52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7640" y="604512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lin y Lebas, 1996</a:t>
            </a:r>
            <a:endParaRPr b="0" lang="en-US" sz="18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ebas y Colin, 2001</a:t>
            </a:r>
            <a:endParaRPr b="0" lang="en-US" sz="18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68360" y="2117880"/>
            <a:ext cx="387504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Italia             7,376                   12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China           6,061                   10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Ucrania        4,958                     8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Rusia           4,246                     7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Francia        3,916                     6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España        3,864                     6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Egipto          3,235                     5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68360" y="1574640"/>
            <a:ext cx="38750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País            Miles                    %</a:t>
            </a:r>
            <a:endParaRPr b="0" lang="en-US" sz="20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711680" y="4952880"/>
            <a:ext cx="42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 7  países  está  concentrada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52 % de la población mundial.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785840" y="3789360"/>
            <a:ext cx="40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996    64.2 millones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00    71.1 millones (10 % +)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pic>
        <p:nvPicPr>
          <p:cNvPr id="137" name="Picture 13" descr="conejos frente a frente"/>
          <p:cNvPicPr/>
          <p:nvPr/>
        </p:nvPicPr>
        <p:blipFill>
          <a:blip r:embed="rId1"/>
          <a:stretch/>
        </p:blipFill>
        <p:spPr>
          <a:xfrm>
            <a:off x="4572000" y="1557360"/>
            <a:ext cx="4321080" cy="1913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5"/>
          <p:cNvSpPr/>
          <p:nvPr/>
        </p:nvSpPr>
        <p:spPr>
          <a:xfrm>
            <a:off x="4937040" y="3284640"/>
            <a:ext cx="32623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ejas reproductoras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3" descr="Mapa mundo2"/>
          <p:cNvPicPr/>
          <p:nvPr/>
        </p:nvPicPr>
        <p:blipFill>
          <a:blip r:embed="rId1"/>
          <a:stretch/>
        </p:blipFill>
        <p:spPr>
          <a:xfrm>
            <a:off x="826920" y="1052640"/>
            <a:ext cx="7691760" cy="4572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762120" y="1295280"/>
            <a:ext cx="7772400" cy="448236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donesia                          2,698                    4.2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.U.A.                               2,422                     3.8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Nigeria                              2,107                     3.3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Filipinas                            1,609                     2.5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lemania                          1,458                     2.3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Bielorusia                         1,341                     2.0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rgelia                              1,043                     1.6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ailandia                          1,028                      1.6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México                             1,018                      1.5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62120" y="152280"/>
            <a:ext cx="7772400" cy="45972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Países con más de 1 millón de conejas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762120" y="5867280"/>
            <a:ext cx="7772400" cy="4291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00"/>
                </a:solidFill>
                <a:latin typeface="Arial"/>
              </a:rPr>
              <a:t>Total                                  14,724                        23.0</a:t>
            </a:r>
            <a:endParaRPr b="0" lang="en-US" sz="22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85800" y="64008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olin y Lebas, 1996.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2120" y="762120"/>
            <a:ext cx="7772400" cy="4597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aís                                 Miles                     %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657600" y="5257800"/>
            <a:ext cx="3200400" cy="4572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187280" y="1557360"/>
            <a:ext cx="662652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INEGI (1994) reporta un total de 673,145 cabezas a nivel nacional y menciona que la mayoría de las unidades de producción son rurales.</a:t>
            </a: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31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6T01:52:34Z</dcterms:created>
  <dc:creator>César Gamboa Ramírez</dc:creator>
  <dc:description/>
  <dc:language>en-US</dc:language>
  <cp:lastModifiedBy>Yolanda</cp:lastModifiedBy>
  <dcterms:modified xsi:type="dcterms:W3CDTF">2009-09-18T14:17:23Z</dcterms:modified>
  <cp:revision>91</cp:revision>
  <dc:subject/>
  <dc:title>Sin título de diapositiva</dc:title>
</cp:coreProperties>
</file>